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BAC-E717-46F6-8E67-346EE2D9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1D1B-07C2-4A2C-AFA0-3C5773E5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0AD-9CDD-4B88-B2DC-EFA8674C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5EFE-3FDB-4212-929E-E7E9BE34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74AD-8A8D-469C-8D3F-726CB67A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449-5C73-4B1C-8C18-2894A68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045-4802-4CAC-BFAF-09A83E6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C01-6D8C-453A-B89E-1FA29624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E3B-96D9-48E0-ADBF-4B8F439B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5FB-75F2-4A86-A412-C84ED05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779-D88D-49E9-8618-F09F2968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626-85DD-45F4-9CC2-ECFA21AE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9732-A7EC-4DB0-B9C9-F163B865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2057400"/>
            <a:ext cx="70866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NIMALE SĂLBATICE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DIN ALTE ŢĂRI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8487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0962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172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80880" y="366840"/>
            <a:ext cx="8534520" cy="6110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05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8360"/>
            <a:ext cx="8076960" cy="6461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5345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80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059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305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29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9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095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99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7-04-26T11:10:1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